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gif" ContentType="image/gif"/>
  <Override PartName="/ppt/media/image18.jpeg" ContentType="image/jpeg"/>
  <Override PartName="/ppt/media/chimes.wav" ContentType="audio/x-wav"/>
  <Override PartName="/ppt/media/image16.jpeg" ContentType="image/jpeg"/>
  <Override PartName="/ppt/media/image7.wmf" ContentType="image/x-wmf"/>
  <Override PartName="/ppt/media/image19.png" ContentType="image/png"/>
  <Override PartName="/ppt/media/image15.png" ContentType="image/png"/>
  <Override PartName="/ppt/media/image11.gif" ContentType="image/gif"/>
  <Override PartName="/ppt/media/image14.gif" ContentType="image/gif"/>
  <Override PartName="/ppt/media/image6.gif" ContentType="image/gif"/>
  <Override PartName="/ppt/media/image17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C4C9-DB08-4E6A-B81A-AE0D18C8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587-2ECB-4E16-AFDF-73D58FF8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9A8-40FE-47A6-84DE-DB5969EC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83B-B92B-4824-84F0-65728C40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B85B1-E96B-4F9A-8AD7-6AA1595E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4384E-D06C-48DD-82EA-FAA56510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45B7A-9EC1-4B62-AC22-CD515C71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5A43F-DB56-4E60-9433-E2B9ADB1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8009C-22CB-4355-B65E-F82CCBD8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ACD7B-C911-4385-BB67-42D9F7DE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E5A41-2B80-47B6-A37B-1EFC59CB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B9E-BF56-471C-8CB8-F57178BA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55C46-9180-4CF6-854E-CD5BBB22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B6491-8506-4139-B4B6-B0616E4D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D8EAF-7D51-4BF5-994B-DC86365B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5735F-FF1B-4B2E-8F97-D246AD38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4E24F-F17C-424B-97FE-05F020A5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675-A6C4-4B96-A149-C97E78AA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C6F-78CD-40B7-BAE9-4C7CFC97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316E-F4CC-4B70-A430-C31F9F24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A81-4019-445E-9494-FA4B1A24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02B8-D65E-400D-B522-45F64096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AA06-BEBA-4DA0-83A7-742F16E5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245-B135-4C1A-B6E8-02657F54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6892-462D-4F8A-BC5A-F9D8F451DA2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41EE-34FA-4D34-AD9F-7745F21041A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hyperlink" Target="http://images.google.com./imgres?imgurl=www.gdtv.com.cn/newpage/download/pic/katong/01.jpg&amp;imgrefurl=http://www.gdtv.com.cn/newpage/download/download.asp&amp;h=750&amp;w=518&amp;prev=/images%3Fq%3D%25E5%258D%25A1%25E9%2580%259A%25E4%25BA%25BA%25E7%2589%25A9%26svnum%3D10%26hl%3Dzh-CN%26lr%3D%26ie%3DUTF-8%26oe%3DUTF-8%26sa%3DG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sdqy.net/tongzhi/login.htm" TargetMode="Externa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无人监考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除了考知识还考什么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135640" cy="5116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2057400" cy="26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057400" cy="26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08800" y="4724280"/>
            <a:ext cx="1735200" cy="2133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rot="16200000">
            <a:off x="5850000" y="4561920"/>
            <a:ext cx="1439640" cy="1116000"/>
          </a:xfrm>
          <a:prstGeom prst="cloudCallout">
            <a:avLst>
              <a:gd name="adj1" fmla="val -56546"/>
              <a:gd name="adj2" fmla="val 4966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11520" y="46530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ahoma"/>
              </a:rPr>
              <a:t>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ahoma"/>
              </a:rPr>
              <a:t>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3640" y="3549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92160" y="5280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0520" y="499752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7920" y="17208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24240" y="164448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2421000"/>
            <a:ext cx="752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0199"/>
                </a:solidFill>
                <a:latin typeface="Tahoma"/>
                <a:ea typeface="黑体"/>
              </a:rPr>
              <a:t>眼前利益与长远利益冲突时，站在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长远利益</a:t>
            </a:r>
            <a:r>
              <a:rPr b="1" lang="zh-CN" sz="4400" spc="-1" strike="noStrike">
                <a:solidFill>
                  <a:srgbClr val="010199"/>
                </a:solidFill>
                <a:latin typeface="Tahoma"/>
                <a:ea typeface="黑体"/>
              </a:rPr>
              <a:t>一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050920" y="765000"/>
            <a:ext cx="4859640" cy="971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635520" y="765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7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1557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铁柱到表哥家做客，发现表哥躲在屋后的水塘边吸食毒品。表哥求他不要告诉别人，父母也告诫铁柱别伤表兄弟的感情。但铁柱心里明白，吸毒是违法行为，隐瞒不报就是包庇，于是，铁柱向当地公安机关报了案。表哥受到法律的制裁。但亲戚朋友都指责铁柱落井下石，铁柱很苦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63640" y="260280"/>
            <a:ext cx="4969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铁柱的故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05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情与法冲突时，站在法律一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515280" y="4971960"/>
            <a:ext cx="2628720" cy="1886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580000" y="1125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116000" y="1197000"/>
            <a:ext cx="485928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715000" cy="1143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042920" y="2205000"/>
            <a:ext cx="69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010199"/>
                </a:solidFill>
                <a:latin typeface="Arial"/>
                <a:ea typeface="黑体"/>
              </a:rPr>
              <a:t>做到诚信，不违背道德，是需要智慧的，要根据具体情况，采取不同措施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32000" y="1484280"/>
            <a:ext cx="6248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幼圆"/>
              </a:rPr>
              <a:t>        </a:t>
            </a:r>
            <a:r>
              <a:rPr b="1" lang="zh-CN" sz="4400" spc="-1" strike="noStrike">
                <a:solidFill>
                  <a:srgbClr val="010199"/>
                </a:solidFill>
                <a:latin typeface="Tahoma"/>
                <a:ea typeface="幼圆"/>
              </a:rPr>
              <a:t>应该正确把握对人诚实与尊重他人隐私之间的关系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c600"/>
                </a:solidFill>
                <a:latin typeface="Tahoma"/>
                <a:ea typeface="楷体_GB2312"/>
              </a:rPr>
              <a:t>请鉴别下列观点：</a:t>
            </a:r>
            <a:br>
              <a:rPr sz="4400"/>
            </a:br>
            <a:br>
              <a:rPr sz="4400"/>
            </a:b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⑴为了表明自己诚实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常常需要泄露朋友的隐私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⑵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不管遇到什么问题，都要绝对尊重朋友的隐私。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楷体_GB2312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⑶诚实就是要把自己的事全都如实地告诉别人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哪怕是隐私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⑷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与网友见面属于个人隐私，不能告诉父母，免得他们阻止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1143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03120" y="14842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、“以诚待人，以信交友”是人际关系的基本准则，我们应该恪守诚信的品德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363060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、尊重隐私是待人坦诚的前提，是维持良好关系，有效沟通的基础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9640" y="1989000"/>
            <a:ext cx="79408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从根本上说，“</a:t>
            </a:r>
            <a:r>
              <a:rPr b="1" lang="zh-CN" sz="4000" spc="-1" strike="noStrike">
                <a:solidFill>
                  <a:srgbClr val="6699ff"/>
                </a:solidFill>
                <a:latin typeface="Arial"/>
                <a:ea typeface="黑体"/>
              </a:rPr>
              <a:t>善意的谎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，并不违背诚信的道德 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　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诚信的核心是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患者吴诚信的就诊报告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四川省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00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高考满分作文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姓名：吴诚信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　　性别：男亦可，女亦可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　　年龄：生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世纪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年代或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70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年代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　　职业：待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　　确诊方法：中西结合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   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　一、望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　脸色：无甚大碍，就是不会脸红。即使是“落井下石”后，也是脸不变色。眼睛：眼珠缺乏灵活性，只能侧视或者向“钱”看。目光狡黠。鼻子：鼻头上翘，鼻孔变大，嗅觉间歇性失灵。只能闻官气、贵气，而不能闻民气、贫气。舌头：发生变质、发音不准确，舌间形状有变为弹簧的趋势。说“撒谎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sāhuǎng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发音清晰，说“真话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zhēnhuà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则发音含糊，吐字不清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16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二、把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　　脉搏沉、快、促、紧、滑、涩……典型的吹牛皮后心悸、早搏导致的心脏衰竭的先兆。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三、透视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肝肺呈现出暗色，甚至变黑。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脊椎有弯曲迹象，病情表现为直不起腰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400" y="62028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四、血样采集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　　患者血色呈暗红色。血色分子结构多种多样，有“才”、有“貌”、有“钱”、有“思”，其中前三者居多，唯独缺“信”，“诚”细胞和血小板几乎没有。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五、基因鉴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　　经过精密仪器测试，患者的基因已经发生异变。已不能显示系何族子孙，“信、义、忠”结构已被破坏。虽然基因测试确定不出系何族，但其行动都具有浓厚的封建小农意识。表现为见了五斗米就折腰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当然，脊椎已查明有问题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，勾心斗角，尔虞我诈，挖人墙脚，落井下石。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六、治疗方法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换血：注入大量“人文”氧气，替换体内有害健康的“拜金主义”二氧化碳。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每天早晚一次扪心自问，摸摸自己的良心在否。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阅读大量杂文，唤醒其诚信意识。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1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七、医生建议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　　此病例不是首次发现，十分具有代表性，望患者注意，切莫相互传染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　　医生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签章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25415"/>
          <p:cNvPicPr/>
          <p:nvPr/>
        </p:nvPicPr>
        <p:blipFill>
          <a:blip r:embed="rId1"/>
          <a:stretch/>
        </p:blipFill>
        <p:spPr>
          <a:xfrm>
            <a:off x="0" y="-171360"/>
            <a:ext cx="9647280" cy="7029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671480" y="127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1490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717480"/>
            <a:ext cx="185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隶书"/>
              </a:rPr>
              <a:t>诚信是一扇门，是一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隶书"/>
              </a:rPr>
              <a:t>窗，是清晨射入我心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隶书"/>
              </a:rPr>
              <a:t>的第一缕阳光，生活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隶书"/>
              </a:rPr>
              <a:t>我与阳光同在，生活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隶书"/>
              </a:rPr>
              <a:t>我与诚信同在．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252360" y="188640"/>
            <a:ext cx="5945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c600"/>
                </a:solidFill>
                <a:latin typeface="Tahoma"/>
                <a:ea typeface="华文新魏"/>
              </a:rPr>
              <a:t>文字游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834920" y="206064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ahoma"/>
                <a:ea typeface="华文彩云"/>
              </a:rPr>
              <a:t>诚</a:t>
            </a:r>
            <a:r>
              <a:rPr b="0" lang="zh-CN" sz="8000" spc="-1" strike="noStrike">
                <a:solidFill>
                  <a:srgbClr val="ffffff"/>
                </a:solidFill>
                <a:latin typeface="Tahoma"/>
                <a:ea typeface="华文彩云"/>
              </a:rPr>
              <a:t>→</a:t>
            </a:r>
            <a:r>
              <a:rPr b="0" lang="zh-CN" sz="8000" spc="-1" strike="noStrike">
                <a:solidFill>
                  <a:srgbClr val="ffcc00"/>
                </a:solidFill>
                <a:latin typeface="Tahoma"/>
                <a:ea typeface="华文彩云"/>
              </a:rPr>
              <a:t>言</a:t>
            </a:r>
            <a:r>
              <a:rPr b="0" lang="zh-CN" sz="8000" spc="-1" strike="noStrike">
                <a:solidFill>
                  <a:srgbClr val="ffffff"/>
                </a:solidFill>
                <a:latin typeface="Tahoma"/>
                <a:ea typeface="华文彩云"/>
              </a:rPr>
              <a:t>+</a:t>
            </a:r>
            <a:r>
              <a:rPr b="0" lang="zh-CN" sz="8000" spc="-1" strike="noStrike">
                <a:solidFill>
                  <a:srgbClr val="6699ff"/>
                </a:solidFill>
                <a:latin typeface="Tahoma"/>
                <a:ea typeface="华文彩云"/>
              </a:rPr>
              <a:t>成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ahoma"/>
                <a:ea typeface="华文彩云"/>
              </a:rPr>
              <a:t>信</a:t>
            </a:r>
            <a:r>
              <a:rPr b="0" lang="zh-CN" sz="8000" spc="-1" strike="noStrike">
                <a:solidFill>
                  <a:srgbClr val="ffffff"/>
                </a:solidFill>
                <a:latin typeface="Tahoma"/>
                <a:ea typeface="华文彩云"/>
              </a:rPr>
              <a:t>→</a:t>
            </a:r>
            <a:r>
              <a:rPr b="0" lang="zh-CN" sz="8000" spc="-1" strike="noStrike">
                <a:solidFill>
                  <a:srgbClr val="6699ff"/>
                </a:solidFill>
                <a:latin typeface="Tahoma"/>
                <a:ea typeface="华文彩云"/>
              </a:rPr>
              <a:t>人</a:t>
            </a:r>
            <a:r>
              <a:rPr b="0" lang="zh-CN" sz="8000" spc="-1" strike="noStrike">
                <a:solidFill>
                  <a:srgbClr val="ffffff"/>
                </a:solidFill>
                <a:latin typeface="Tahoma"/>
                <a:ea typeface="华文彩云"/>
              </a:rPr>
              <a:t>+</a:t>
            </a:r>
            <a:r>
              <a:rPr b="0" lang="zh-CN" sz="8000" spc="-1" strike="noStrike">
                <a:solidFill>
                  <a:srgbClr val="ffcc00"/>
                </a:solidFill>
                <a:latin typeface="Tahoma"/>
                <a:ea typeface="华文彩云"/>
              </a:rPr>
              <a:t>言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3200400"/>
          <a:ext cx="23907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00400"/>
                    <a:ext cx="23907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859280" cy="971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53080" y="3284640"/>
            <a:ext cx="80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　　 信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56000" y="3645000"/>
            <a:ext cx="26654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384720" y="3789360"/>
            <a:ext cx="27367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29080" y="2924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前提和基础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672000" y="3932280"/>
            <a:ext cx="1828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具体表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2293920" y="3355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诚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14640" y="819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00480" cy="2046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411280" y="2060640"/>
            <a:ext cx="44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黑体"/>
              </a:rPr>
              <a:t>实 事 求 是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60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0199"/>
                </a:solidFill>
                <a:latin typeface="Tahoma"/>
                <a:ea typeface="华文行楷"/>
              </a:rPr>
              <a:t>真实不欺  、表里如一、信守诺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934320" y="5229360"/>
            <a:ext cx="2209680" cy="1628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37162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你认为怎么做才是诚信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835280" y="476280"/>
            <a:ext cx="4859280" cy="971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227640" y="47628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54936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隶书"/>
              </a:rPr>
              <a:t>　　　　　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　      </a:t>
            </a: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材料一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有一位叫改改的 女孩子，由于不识数，为了生计，妈妈给她摆了一个小摊卖水，两分一杯，只收两分硬币，不找零，有人给她一角，一元，五分，她都不卖，人们好奇，都来买水，生意红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3716280"/>
            <a:ext cx="80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则材料告诉我们什么？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9120" y="464832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10199"/>
                </a:solidFill>
                <a:latin typeface="Tahoma"/>
              </a:rPr>
              <a:t>        </a:t>
            </a:r>
            <a:r>
              <a:rPr b="1" i="1" lang="zh-CN" sz="3600" spc="-1" strike="noStrike">
                <a:solidFill>
                  <a:srgbClr val="ff0000"/>
                </a:solidFill>
                <a:latin typeface="Tahoma"/>
              </a:rPr>
              <a:t>真实不欺、表里如一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772400" y="5445000"/>
            <a:ext cx="1371600" cy="1413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322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牛刀小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941720"/>
            <a:ext cx="2016000" cy="1584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10199"/>
                </a:solidFill>
                <a:latin typeface="Tahoma"/>
              </a:rPr>
              <a:t>人背弃诚信的共同点是：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2324160"/>
            <a:ext cx="6481800" cy="31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ahoma"/>
                <a:ea typeface="华文中宋"/>
              </a:rPr>
              <a:t>生活中发生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ahoma"/>
                <a:ea typeface="华文中宋"/>
              </a:rPr>
              <a:t>利益冲突时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093080" y="4726080"/>
            <a:ext cx="1690560" cy="1690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00000" y="6165720"/>
            <a:ext cx="7452000" cy="271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55640" y="2492280"/>
            <a:ext cx="82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利益冲突时，站在多数人一边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50760" y="4299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3284640"/>
            <a:ext cx="8001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不以一已私利损害大多数人的利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4267080"/>
            <a:ext cx="1905120" cy="2590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166760" y="1308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62064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485928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24494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　 某记者到一家企业采访，经理盛情款待，要他为企业写篇宣传文章，并答应付一笔丰厚的报酬。鉴于该企业的产品存在质量问题，记者恪守诚信的原则，断然拒绝了这一要求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5:18:1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14:20Z</dcterms:modified>
  <cp:revision>114</cp:revision>
  <dc:subject>主题班会课件(分28大类): http://shop62905894.taobao.com</dc:subject>
  <dc:title>主题班会课件(分28大类): http://shop62905894.taobao.com</dc:title>
</cp:coreProperties>
</file>